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7.jpeg" ContentType="image/jpeg"/>
  <Override PartName="/ppt/media/image4.jpeg" ContentType="image/jpeg"/>
  <Override PartName="/ppt/media/image13.gif" ContentType="image/gif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2.gif" ContentType="image/gif"/>
  <Override PartName="/ppt/media/image10.jpeg" ContentType="image/jpeg"/>
  <Override PartName="/ppt/media/image8.jpeg" ContentType="image/jpeg"/>
  <Override PartName="/ppt/media/image12.gif" ContentType="image/gif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842FB-8AFA-4CF0-BD1F-461444B9A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53338-E767-4738-823D-80661F921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34415-7950-4E05-BD0E-72C15B7D2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43D2D-9184-4BF1-B548-D2D0B7FF0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652BF-2BF4-4C19-8F13-D707ED5FA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36B70-1B38-47FB-A7A6-2454517AE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18567-F4A1-4998-87D4-5D239A8A8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7166E-DEBF-401A-B580-D2FE197B1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6F692-4B46-4F5E-9616-2EFF42100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358B0-9C06-47E5-9860-34D3FB5CF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0DEFB-84EE-4248-A30B-516FDAAFD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D8F03-78E6-41D2-891D-FB70C33AA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D4A87-3A10-4691-AEDB-FE17F3F5F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71FA8-92D2-4E1F-B1DB-AFE4E0056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ECE3D-4623-4B46-9ADB-99130BD08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E0DF9-2DAE-4C45-B808-3CF9C3738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1DAD8-14AF-4E54-87FD-219AFCC59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76BC2-EFA3-4F68-8D14-3759C790E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CE2E4-E9A2-4877-AAB5-211AED155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5685F-2C22-4F77-9706-01E78F580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0FEF8-A090-407F-9580-90993FB62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C31BC-BAE0-4634-8789-323B39E6A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5FF1F-870C-4118-A3E7-F8F047D30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32C0A-1E55-4BAB-B168-DA5C9B574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9E612-EFCC-4918-AD6B-334C93B9B6CC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B4AC4-912C-4175-B158-F985A6C7361E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86920" y="188640"/>
            <a:ext cx="70866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ahoma"/>
              </a:rPr>
              <a:t>Теория панспермии-</a:t>
            </a:r>
            <a:br>
              <a:rPr sz="4400"/>
            </a:br>
            <a:r>
              <a:rPr b="1" lang="en-US" sz="2000" spc="-1" strike="noStrike">
                <a:solidFill>
                  <a:srgbClr val="eaeaea"/>
                </a:solidFill>
                <a:latin typeface="Tahoma"/>
              </a:rPr>
              <a:t>жизнь на нашу планету занесена извне, из Вселенной.</a:t>
            </a:r>
            <a:endParaRPr b="1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"/>
          <p:cNvSpPr/>
          <p:nvPr/>
        </p:nvSpPr>
        <p:spPr>
          <a:xfrm>
            <a:off x="2771640" y="2060640"/>
            <a:ext cx="597708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Гипотеза была выдвинута Ю.Либихом и Г.Рихтером в середине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XIX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век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аиболее полно изложил Сванте Аррениус в 1895 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огласно гипотезе панспермии жизнь существует вечно и переносится с планеты на планету метеоритам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ростейшие организмы или их споры («семена жизни»), попадая на новую планету и найдя здесь благоприятные условия, размножаются, давая начало эволюции от простейших форм к сложны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озможно, что жизнь на Земле возникла из одной-единственной колонии микроорганизмов, заброшенных из космос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2637000"/>
            <a:ext cx="2700360" cy="202536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10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ahoma"/>
              </a:rPr>
              <a:t>                                            </a:t>
            </a:r>
            <a:endParaRPr b="1" lang="en-US" sz="1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3708360" y="260280"/>
            <a:ext cx="5256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aeaea"/>
                </a:solidFill>
                <a:latin typeface="Tahoma"/>
              </a:rPr>
              <a:t>Для обоснования этой теории  используются многократные появления  НЛО, наскальные изображения предметов, похожих на ракеты и «космонавтов», а  также сообщения якобы о встречах с инопланетянами. При изучении </a:t>
            </a:r>
            <a:br>
              <a:rPr sz="1600"/>
            </a:br>
            <a:r>
              <a:rPr b="1" lang="ru-RU" sz="1600" spc="-1" strike="noStrike">
                <a:solidFill>
                  <a:srgbClr val="eaeaea"/>
                </a:solidFill>
                <a:latin typeface="Tahoma"/>
              </a:rPr>
              <a:t>материалов метеоритов и комет в них   были обнаружены многие  «предшественники живого» - такие вещества, как цианогены, синильная </a:t>
            </a:r>
            <a:br>
              <a:rPr sz="1600"/>
            </a:br>
            <a:r>
              <a:rPr b="1" lang="ru-RU" sz="1600" spc="-1" strike="noStrike">
                <a:solidFill>
                  <a:srgbClr val="eaeaea"/>
                </a:solidFill>
                <a:latin typeface="Tahoma"/>
              </a:rPr>
              <a:t> кислота и органические соединения,  которые,    возможно, сыграли роль «семян», падавших на голую Землю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900000" y="4149720"/>
            <a:ext cx="8244000" cy="187164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1419480" cy="16477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1763640" y="189000"/>
            <a:ext cx="1600200" cy="15048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179280" y="4514760"/>
            <a:ext cx="3505320" cy="23432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179280" y="1989000"/>
            <a:ext cx="3529080" cy="23479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6"/>
          <a:stretch/>
        </p:blipFill>
        <p:spPr>
          <a:xfrm>
            <a:off x="4067280" y="3429000"/>
            <a:ext cx="1904760" cy="142884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7"/>
          <a:stretch/>
        </p:blipFill>
        <p:spPr>
          <a:xfrm>
            <a:off x="4067280" y="5157720"/>
            <a:ext cx="1904760" cy="142884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8"/>
          <a:stretch/>
        </p:blipFill>
        <p:spPr>
          <a:xfrm>
            <a:off x="6326280" y="3357720"/>
            <a:ext cx="2428920" cy="3240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Tahoma"/>
              </a:rPr>
              <a:t>На найденном в Антарктиде метеорите обнаружены объекты, которые можно идентифицировать как следы жизнедеятельности микроорганизмов из космоса.</a:t>
            </a:r>
            <a:br>
              <a:rPr sz="1800"/>
            </a:br>
            <a:endParaRPr b="1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042920" y="1989000"/>
            <a:ext cx="756144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835280" y="260280"/>
            <a:ext cx="675144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Tahoma"/>
              </a:rPr>
              <a:t>Сторонниками этой гипотезы были лауреаты Нобелевской премии </a:t>
            </a: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Ф.Крик, Л.Оргел.</a:t>
            </a:r>
            <a:br>
              <a:rPr sz="2000"/>
            </a:br>
            <a:r>
              <a:rPr b="1" lang="ru-RU" sz="2000" spc="-1" strike="noStrike">
                <a:solidFill>
                  <a:srgbClr val="eaeaea"/>
                </a:solidFill>
                <a:latin typeface="Tahoma"/>
              </a:rPr>
              <a:t>Ф.Крик основывался на двух косвенных доказательствах:</a:t>
            </a:r>
            <a:endParaRPr b="1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908000" y="1989000"/>
            <a:ext cx="667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универсальности генетического кода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необходимости для нормального метаболизма всех живых существ молибдена, который встречается сейчас на планете крайне редко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692360" y="4888080"/>
            <a:ext cx="7272360" cy="181764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277920" y="2205000"/>
            <a:ext cx="112536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42560" y="2133360"/>
            <a:ext cx="7543800" cy="23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ahoma"/>
              </a:rPr>
              <a:t>Но если жизнь возникла не на Земле, то как она возникла вне её?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Tahoma"/>
              </a:rPr>
              <a:t>        </a:t>
            </a:r>
            <a:endParaRPr b="0" lang="en-US" sz="9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Tahoma"/>
              </a:rPr>
              <a:t>        </a:t>
            </a:r>
            <a:endParaRPr b="0" lang="en-US" sz="9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059280" y="4506840"/>
            <a:ext cx="2304720" cy="230508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6516720" y="0"/>
            <a:ext cx="2425680" cy="2421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3T12:25:37Z</dcterms:created>
  <dc:creator>user</dc:creator>
  <dc:description/>
  <dc:language>en-US</dc:language>
  <cp:lastModifiedBy>user</cp:lastModifiedBy>
  <dcterms:modified xsi:type="dcterms:W3CDTF">2006-11-07T14:44:00Z</dcterms:modified>
  <cp:revision>10</cp:revision>
  <dc:subject/>
  <dc:title>Теория панспермии  внеземное происхожд </dc:title>
</cp:coreProperties>
</file>